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B50D-6EAB-4DBD-A6FE-6AF9A941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BD66-6FDD-48C0-9643-8B32F2A7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E2F5-EB95-4DCD-91C7-EAF1CF1A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53F7-B95C-463B-8D64-20CA0A7E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B536-3C74-4A76-891F-B43EF62C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6C58-1361-45AD-83E3-DAF98A14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5248-C2D8-403A-A54D-C3CCF584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C4F3-9E83-4464-88A7-0DCBB660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EEFA-1D1F-4D6C-A64D-246A9CB9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A21A-8406-473C-BC99-BAFB3307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9B76-C56B-4E9F-BA89-15836F42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FBFF-C95A-4520-BF34-ACC3A22E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A42E-17CB-40CB-A4DF-B5BD0F74BA1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7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طلبوا ملكوتَ الله وبـِرَهُ أولاً</a:t>
            </a:r>
            <a:br>
              <a:rPr sz="7400"/>
            </a:br>
            <a:r>
              <a:rPr b="1" i="1" lang="ar-SA" sz="7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كلُّ تلكَ الأشياءِ تُزادُ لكُم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7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للوا هللويا 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320" y="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سألوا يُعطى لكُم، أُطلبوا تجدوا، إقرعوا يُفتَحُ البابُ لكُم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للوا هللويا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0:42:02Z</dcterms:created>
  <dc:creator>Charbel Azar</dc:creator>
  <dc:description/>
  <dc:language>en-US</dc:language>
  <cp:lastModifiedBy>Personal</cp:lastModifiedBy>
  <dcterms:modified xsi:type="dcterms:W3CDTF">2008-04-24T08:29:11Z</dcterms:modified>
  <cp:revision>43</cp:revision>
  <dc:subject/>
  <dc:title>Slide 1</dc:title>
</cp:coreProperties>
</file>